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CA9-4CF5-49BE-B9C8-9A299294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807-9483-4AF5-9832-A46E87FA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5D1B-E2B2-4B6C-995E-1F0D7FE8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F10-E2CA-4CF8-8365-8F69E230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43D4-FD92-4E38-9FD3-C7E5EC29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C877-F933-48DD-A5BE-D9544E30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60DC-B96C-4C0C-8648-6B972747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60B6-93C8-4073-9162-BBAAA81B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500A-59B4-4BAD-8DBF-190F7E5B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4FD1-8B5A-4689-A5F0-87E03693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6F85-F6A4-40F0-80D8-9C01ED7E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51F-A3F2-4D2F-91B4-1544C1CA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9A16-D864-4F0F-B8D0-37E3D52B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2EC4-7543-4576-8642-7C699A21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6566-F519-416E-9416-469F1FDD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1216-77E9-4C90-902A-6EB45E5F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4641-C1B9-4B95-A3E0-4F257B81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A8B-D4C3-450F-83EC-E9ED9376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5F52-B64F-4A0B-818E-E38724DC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A71-B4E0-4CEF-B3A0-2A2B27BF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BFA-655D-4AB8-86EA-6CFF484E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ED2-28A7-45D0-9BAB-2CAB7371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487-073D-4C06-A8A6-B5A40F0A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6D9-9FC0-445F-AB0A-15986B01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A5FB-8450-4D2F-8729-52BD845614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AF60-7683-452E-BC6D-ABC9B3CE58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дагогическая практ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ку проход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хтареев Ол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фаров Ильн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ереселидзе Гиор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ерышов Владисл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фарова А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машула Оль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нбеков Дан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лимзянов Робе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зат Гатаул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http://cs.nblz.ru/pp/c639119/v639119722/9254/Vr6umYF7i1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http://cs.nblz.ru/pp/c639731/v639731308/725/1uFRQf9N3e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фаров Ильнар проводи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http://cs.nblz.ru/pp/c636426/v636426308/4b733/0tpAg_xe9f8.jpg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ир и Азат проводя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ttp://cs.nblz.ru/pp/c636426/v636426308/4b702/AVV-JNh8vU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http://cs.nblz.ru/pp/c636426/v636426308/4b6e6/6a9vZy41db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ида проводит урок в 5 класс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http://cs.nblz.ru/pp/c636426/v636426308/4b73d/yUhbSBEjxT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http://cs.nblz.ru/pp/c639621/v639621913/5483/cdQJarZgt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тареев Олег заполняет документацию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http://cs.nblz.ru/pp/c837320/v837320368/220f3/qQlYrTTSuh8.jp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рышов Владислав проводит урок в 1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http://cs.nblz.ru/pp/c639119/v639119722/925e/tcmxwqkcE7M.jpg"/>
          <p:cNvPicPr/>
          <p:nvPr/>
        </p:nvPicPr>
        <p:blipFill>
          <a:blip r:embed="rId2"/>
          <a:stretch/>
        </p:blipFill>
        <p:spPr>
          <a:xfrm>
            <a:off x="0" y="1198440"/>
            <a:ext cx="91440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02-08T05:29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